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1E2-0C53-4C29-92A8-56E1BA5E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652-C2B2-4AFA-9B5E-71741B27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4D0-5F5D-4374-B423-1C75843D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5D1-D65A-4010-84EA-025A5EEE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9D4-5F3B-4F4C-BC84-46CBD30D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BB5-9472-4C3C-A88F-E1CE238A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8E6-4380-4648-BC78-6B56C6C7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B2B-17E3-473D-87E6-7275D736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0B1-2A2B-41BB-BA15-D611C097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38A-ED97-4B63-978C-5CE6D943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36A-F5C7-48A6-8C5D-7773B359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CD4-5B54-4E02-95F6-8CA9114F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5F96-83FA-4689-82DE-0E48DA2CA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We praise you, O Go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ty, you seek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ercy, you keep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ation, you glorif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eneros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provide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wisdom, you plac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ight, you shiel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overna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make us ho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communion, you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love, you lift us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sed on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he Nine Choirs: How They Sing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y Mechtild of Magdeburg (1210-1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24:36Z</dcterms:created>
  <dc:creator>Anon Anon</dc:creator>
  <dc:description/>
  <dc:language>en-US</dc:language>
  <cp:lastModifiedBy>Anon Anon</cp:lastModifiedBy>
  <dcterms:modified xsi:type="dcterms:W3CDTF">2005-08-09T05:45:24Z</dcterms:modified>
  <cp:revision>8</cp:revision>
  <dc:subject/>
  <dc:title>PowerPoint Presentation</dc:title>
</cp:coreProperties>
</file>